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to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9B0C-F709-433D-AA56-A3432C29F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2DA-D068-445D-9DA9-E486361DF1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0272-B93B-4E68-91F6-6489BFEA2F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3CC7-A019-4CE6-A112-01CEBF3ABA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6C4-3932-4B9B-9636-536808E1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62E-077D-4E26-9628-7C0DD66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C79-F53D-4845-AAD1-76007B6B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79A-13C3-4B59-A237-FB9C751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1EE-386B-4DB4-9D64-BD73FB00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4CF-5D86-449C-B2A9-8E64879C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2694-2503-4B82-AFC3-84554BB7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06C-CBAE-4D99-BC29-C4D28F07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FAB2-C151-4700-AFA1-5C6702D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6066-E6EF-45D3-82EF-3D0B7D53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CBED-4E31-4966-9114-CF219A39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F85-E38C-4558-B5EE-D3C81F7C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49E9-BAFD-47C3-B2CB-EB5E31A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BFF1-5951-4261-AD65-1AA3969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43DA-E7C6-4ADB-80CD-C613D301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D9F7-7BBC-414A-AF48-F99C6F69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852-789C-449A-9D2F-7497AC88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3C0-349F-469F-A374-FB07191D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E5A-A0E2-4B68-A46C-1CB3FE85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C45-55D8-4F24-85FC-7BC1A034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7F0-D3C7-48F5-A18D-C03F0B3B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0C9-9178-4E45-9219-A528813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401-48F1-4721-AA0E-E66ED578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C1D-E922-4F24-9020-15FF842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A79D-500D-46FB-AF53-5A142E68BF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399-74B5-4DCD-8C47-A5B4913CBAB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  <a:ea typeface="Arial"/>
              </a:rPr>
              <a:t>Gospel Order and Rebell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can I prevent rebellion from starting in my he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History Reveals a Pattern of Rebellion against Gospel Ord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5840" y="1628640"/>
            <a:ext cx="849636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1 Corinthians 10:6-12 (Romans 15: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Lust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murmured against Moses because of the Manna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Numbers 11:4-34; Psalm 106:1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Idolatry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worshipped the golden calf when Moses did not return from the mountain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Exodus 32:4-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Sexual immorality 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– Israel disregarded the laws given through Moses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Numbers 25:1-9; Psalms 106:2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Tempting Christ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complained against Moses in Rephidim; the fiery serpents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Exodus 17:2-7; Numbers 21:4-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65040" indent="-2728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beration Sans Narrow"/>
              </a:rPr>
              <a:t>Complaining</a:t>
            </a: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 – Israel complained against Aaron and Moses.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Exodus 16:2; Numbers 14:36, 3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Many look back to the Israelites, and marvel at their unbelief and murmuring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eeling that they themselves would not have been so ungrateful;…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Do we well to be thus unbelieving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Why should we be ungrateful and distrustful?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Patriarchs and Prophets, p. 293-29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How Did Rebellion Start With Korah?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  <a:ea typeface="Arial"/>
              </a:rPr>
              <a:t>Patriarchs and Prophets, p. 396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4120" y="1599840"/>
            <a:ext cx="7715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A man greatly favored with revelations from G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e was on the mountain with Mo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e beheld the divine glo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A slight temp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cause: the judgment of going back to the wildern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Harboring this temp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Moses did not lead as they wished, so they thought that his commands were inconsist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Whispering discontent to one an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y were not sure at first, but others confirmed their 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Charging complaints upon the leaders of Isra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se were not questions in order to learn, but wicked complai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is was even supported by more. Insinuations were readily received by s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Going fur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w claiming leadership themsel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Open rebellion against the order of God</a:t>
            </a: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On What Ground Did Rebellion Start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383840"/>
            <a:ext cx="685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Luci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content with his 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Jealous of an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a part of secret couns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Distru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Kor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content with the way God l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Lost sight of the fact that God did lead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Patriarchs and Prophets, p. 4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Aaron and Miri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part of the counsel that called for the 70 elders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Numbers 1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Fearing that others had more influence than th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272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Ju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Being rebuked by Je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Why Did Rebellions Come Up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In Our Movement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28880" y="1616040"/>
            <a:ext cx="534024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Complaining beca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message was destroying cherished concept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message was rebuking s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of personal rebuk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part of all couns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being invited to spe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getting a specific 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the (hidden) desire to be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080" indent="-270000">
              <a:lnSpc>
                <a:spcPts val="1998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ollowing the message not with the hear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but only to get recognition in the chu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080" indent="-270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Complaining about God’s lea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080" indent="-270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Reports (gossi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080" indent="-270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ear of being mis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080" indent="-270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Fear of being oppress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080" indent="-270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iberation Sans Narrow"/>
              </a:rPr>
              <a:t>Mistru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Recognizing the Spirit of Rebellion in Me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  <a:ea typeface="Arial"/>
              </a:rPr>
              <a:t>(Recognizing Selfishness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3200" y="1606680"/>
            <a:ext cx="677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In order to prevent rebellion, I need healthy self-distrust. </a:t>
            </a:r>
            <a:r>
              <a:rPr b="0" lang="en-US" sz="1400" spc="-1" strike="noStrike">
                <a:solidFill>
                  <a:srgbClr val="ffffff"/>
                </a:solidFill>
                <a:latin typeface="Liberation Sans Narrow"/>
              </a:rPr>
              <a:t>1 Corinthians 10: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I think that something negative is said about m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my work is put into questio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my contributions are not appreciat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as I think they ought to b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think when my habits and customs are put into questio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think when I have to bear reproach from the wor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because of habits I adopted in obedience to the messag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when I am rebuke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feel towards people of authori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feel when I think that people take responsibility away from m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feel when I do not have a part in some counsel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think when I see weaknesses–or think I see weaknesses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in those who are leading m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What do I feel when I hear unfavorable reports about the leadership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relate to my parent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6680" indent="-259200">
              <a:lnSpc>
                <a:spcPts val="1998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How do I relate to authorities in the worl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How Can We Escape the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  <a:ea typeface="Arial"/>
              </a:rPr>
              <a:t>Spirit of Rebellion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3800" y="1670040"/>
            <a:ext cx="69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iberation Sans Narrow"/>
              </a:rPr>
              <a:t>By receiving gospel order into our he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Remembering what God has done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Testimonies to Ministers</a:t>
            </a:r>
            <a:r>
              <a:rPr b="0" i="1" lang="en-US" sz="1600" spc="-1" strike="noStrike">
                <a:solidFill>
                  <a:srgbClr val="ffffff"/>
                </a:solidFill>
                <a:latin typeface="Liberation Sans Narrow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 p. 3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Remembering that God is leading, which drives out the fea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of being mislead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Revelation 1:12-20; The Acts of the Apostles, p. 58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Searching my own heart for faults, not the hearts of 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Seeking correction from 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Suffering reproach with God’s people rather than becoming a criticiz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Making Christ first, not making myself important. </a:t>
            </a: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Galatians 2:2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harboring any suspicion of “secret counsels against m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Dealing with mistakes and weaknesses in a brotherly ma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Cherishing love, which drives out all fear of being suppres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Not taking part in, or even listening to any goss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Rebuking the gossiper who talks of things he does not kn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and makes presump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-250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iberation Sans Narrow"/>
              </a:rPr>
              <a:t>Cherishing trust in God’s leading by rehearsing sacred history.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Liberation Sans Narrow"/>
              </a:rPr>
              <a:t>Psalm 10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335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03:25:14Z</dcterms:created>
  <dc:creator>Andreas Dura</dc:creator>
  <dc:description/>
  <dc:language>en-US</dc:language>
  <cp:lastModifiedBy>Frank Zimmerman</cp:lastModifiedBy>
  <dcterms:modified xsi:type="dcterms:W3CDTF">2025-05-11T06:25:22Z</dcterms:modified>
  <cp:revision>21</cp:revision>
  <dc:subject/>
  <dc:title>Gospel order and rebellion</dc:title>
</cp:coreProperties>
</file>